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BC6-FEE1-478B-B152-C6A5852C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6B5-3D60-405D-8A1A-61EF24B8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155-CDAB-457C-A342-A5DA45B9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F36-63BE-42DD-99E3-90F6ECED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B90C-3550-4E91-BC74-273FE8EB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655D-3A64-48FC-8D35-227E6CCF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3362-FE4D-40C7-929F-2AD2C25D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8DE6-DD00-41DC-B4E4-934AE5FE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540F-7F5A-44D2-B2EB-FC773545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B753-3778-4082-8D4A-D77E19EB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FC9B-716E-4C5A-A5BE-7B32F57C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F75-9F10-4DD7-9A0B-A9DE48FC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1326-344F-4D85-8E5D-09426976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058F-3A3D-49B2-9F40-F00145B8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95D1-DDF2-4A80-A0DD-B0356FFC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DE6A-B757-4109-9F91-D4B7073A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FF47-8209-4FB9-9699-BC86FD1A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2198-E81A-4AEF-A156-5166F48E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6CCF-16A1-4E97-B1AA-95AB7E92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226F-7FFC-4890-AAD0-A4634B11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9A6B-E23F-42E2-8EAD-277EA22D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ED2B2-C651-4011-9C7E-80CCB980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0A8-F350-4E1C-871D-3ECA07B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A674-76F8-4EC2-98C7-B7689FFA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5896-078B-4974-B273-737075D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F774-C0C5-4246-92CE-EC297380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5C8E9-A25F-4C39-94DF-15DA2CD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BF73-8229-448D-9549-BDB950A5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9401-8EA8-404B-A6CF-417EF5CE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7808-2F1D-4D28-AA34-E702118E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5F3-C388-47C0-81F3-8B673B5D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34B-0FA4-4E6F-AFA2-789C1AEF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45D-8072-48B5-96FD-3B628E14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8BB-87BF-4B0E-A669-4324C329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960-6515-44F9-89FF-FFA3908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3C8-7007-49E9-B53F-0691476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D644-3C33-4B1C-94E5-A5E95078A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FCDD-BA23-4A3E-AF46-70750C5875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31E3-9011-48EF-945D-3571C1AA5D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Bk BT"/>
              </a:rPr>
              <a:t>Chez Grand-ma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81480" y="5334120"/>
            <a:ext cx="37339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52578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Nous jouons à cache-c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9880" y="5562720"/>
            <a:ext cx="53341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56272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Elle et moi, nous aimons faire la sie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867280" y="22860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sterBodoni BT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PosterBodoni BT"/>
              </a:rPr>
              <a:t>Je l’embrasse sur la jo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19720" y="5029200"/>
            <a:ext cx="4724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50292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Elle et moi, nous aimons jou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56272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5638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Je veux rester encore un p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GoudyHandtooled BT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Est-ce qu’elle aime la maison de grand-ma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and est-ce qu’elle va à la maison de grand-ma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’est-ce qu’elle fait avec son chi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i est-ce que le chien a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Est-ce que nous aimons mar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Est-ce que nous promenons son chi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i joue cache-cac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Qu’est-ce que nous mangeons à la maison de grand-ma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Est-ce qu’elle joue avec son c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hardFashion BT"/>
              </a:rPr>
              <a:t>Pourquoi est-ce qu’elle voudrait rester chez sa grand-ma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33920" y="510552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J’aime la maison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grand-ma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76920" y="43434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sterBodoni BT"/>
              </a:rPr>
              <a:t>J’y vais aujourd’h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3808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sterBodoni BT"/>
              </a:rPr>
              <a:t>Nous jouons avec son chi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181480" y="480060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sterBodoni BT"/>
              </a:rPr>
              <a:t>Son chien aime jouer avec n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867280"/>
            <a:ext cx="9144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867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’aime la maison de grand-ma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00600" y="5562720"/>
            <a:ext cx="4343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5486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osterBodoni BT"/>
              </a:rPr>
              <a:t>Elle et moi, nous aimons mar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638680"/>
            <a:ext cx="4800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6386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Nous promenons son ch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791320"/>
            <a:ext cx="4724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7150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osterBodoni BT"/>
              </a:rPr>
              <a:t>J’aime la maison de grand-ma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59:20Z</dcterms:created>
  <dc:creator>CVJH-LAB</dc:creator>
  <dc:description/>
  <dc:language>en-US</dc:language>
  <cp:lastModifiedBy>nield411</cp:lastModifiedBy>
  <dcterms:modified xsi:type="dcterms:W3CDTF">2008-02-23T14:57:48Z</dcterms:modified>
  <cp:revision>13</cp:revision>
  <dc:subject/>
  <dc:title>Slide 1</dc:title>
</cp:coreProperties>
</file>